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afraidschool.wav" ContentType="audio/x-wav"/>
  <Override PartName="/ppt/media/image6.gif" ContentType="image/gif"/>
  <Override PartName="/ppt/media/bubbles..wav" ContentType="audio/x-wav"/>
  <Override PartName="/ppt/media/image5.gif" ContentType="image/gif"/>
  <Override PartName="/ppt/media/image4.png" ContentType="image/png"/>
  <Override PartName="/ppt/media/shock.wav" ContentType="audio/x-wav"/>
  <Override PartName="/ppt/media/image10.gif" ContentType="image/gif"/>
  <Override PartName="/ppt/media/image12.jpeg" ContentType="image/jpeg"/>
  <Override PartName="/ppt/media/windy.wav" ContentType="audio/x-wav"/>
  <Override PartName="/ppt/media/image3.gif" ContentType="image/gif"/>
  <Override PartName="/ppt/media/whistle.wav" ContentType="audio/x-wav"/>
  <Override PartName="/ppt/media/image13.gif" ContentType="image/gif"/>
  <Override PartName="/ppt/media/image11.gif" ContentType="image/gif"/>
  <Override PartName="/ppt/media/da-wa.wav" ContentType="audio/x-wav"/>
  <Override PartName="/ppt/media/explode.wav" ContentType="audio/x-wav"/>
  <Override PartName="/ppt/media/image9.gif" ContentType="image/gif"/>
  <Override PartName="/ppt/media/image8.gif" ContentType="image/gif"/>
  <Override PartName="/ppt/media/goingmad.wav" ContentType="audio/x-wav"/>
  <Override PartName="/ppt/media/wackysound.wav" ContentType="audio/x-wav"/>
  <Override PartName="/ppt/media/gargle.wav" ContentType="audio/x-wav"/>
  <Override PartName="/ppt/media/image2.png" ContentType="image/png"/>
  <Override PartName="/ppt/media/image1.png" ContentType="image/png"/>
  <Override PartName="/ppt/media/bettyb~1.wav" ContentType="audio/x-wav"/>
  <Override PartName="/ppt/media/checkthisout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765-C72B-44A7-94CA-86F6BB6E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8E1-09C1-4EF1-ABB7-86256477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C1B-4CCC-4C22-9ECA-7AEAD3CD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E82-D54C-4581-862F-624664F2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D0A-5000-4DCF-ADA8-3B722A23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030-0124-4723-970C-6056E3BB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330-57C8-4E8F-991A-7EF9A382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C88-8667-4C4C-B5A7-1F237527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B6D-404B-45D0-9299-24F79FD1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849-5A7A-46E9-99A4-B138BD0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503-F444-4093-8017-493C655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BDC-8D2E-4755-A85B-41806262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EDFD-C8D4-42B3-BC34-EC71E32C57B5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bettyb~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da-w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goingma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fraidschoo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whistle.wav"/><Relationship Id="rId3" Type="http://schemas.openxmlformats.org/officeDocument/2006/relationships/audio" Target="../media/windy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sho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ubbles.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eckthisou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gargl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ackysou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Three States of Mat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Picture 4" descr="knowledge"/>
          <p:cNvPicPr/>
          <p:nvPr/>
        </p:nvPicPr>
        <p:blipFill>
          <a:blip r:embed="rId1"/>
          <a:stretch/>
        </p:blipFill>
        <p:spPr>
          <a:xfrm>
            <a:off x="2895480" y="1752480"/>
            <a:ext cx="33800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i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a fixed shap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a fixed volum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are arranged in a tight, regular pattern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move very littl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5" name="Picture 2" descr="ani-book"/>
          <p:cNvPicPr/>
          <p:nvPr/>
        </p:nvPicPr>
        <p:blipFill>
          <a:blip r:embed="rId1"/>
          <a:stretch/>
        </p:blipFill>
        <p:spPr>
          <a:xfrm>
            <a:off x="5791320" y="762120"/>
            <a:ext cx="2171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ttyb~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s of Solids a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ro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hees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ick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pcicl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8" name="Picture 2" descr="frogwb"/>
          <p:cNvPicPr/>
          <p:nvPr/>
        </p:nvPicPr>
        <p:blipFill>
          <a:blip r:embed="rId1"/>
          <a:stretch/>
        </p:blipFill>
        <p:spPr>
          <a:xfrm>
            <a:off x="4572000" y="2286000"/>
            <a:ext cx="378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-w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437200" y="304920"/>
            <a:ext cx="358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heck out the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Following 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Site on Solids :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0" name="Picture 2" descr="cow"/>
          <p:cNvPicPr/>
          <p:nvPr/>
        </p:nvPicPr>
        <p:blipFill>
          <a:blip r:embed="rId1"/>
          <a:stretch/>
        </p:blipFill>
        <p:spPr>
          <a:xfrm>
            <a:off x="2286000" y="3124080"/>
            <a:ext cx="4049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ingm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8640" y="1295280"/>
            <a:ext cx="585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Watch this Brainpop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Movie on the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States of Matter :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2" name="Picture 3" descr="volcanoe"/>
          <p:cNvPicPr/>
          <p:nvPr/>
        </p:nvPicPr>
        <p:blipFill>
          <a:blip r:embed="rId1"/>
          <a:stretch/>
        </p:blipFill>
        <p:spPr>
          <a:xfrm>
            <a:off x="1905120" y="4114800"/>
            <a:ext cx="40003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riting Activ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e students will describe the three states of matter and include the following :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t least one example of each stat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 description of each stat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5" name="Picture 2" descr="happiness"/>
          <p:cNvPicPr/>
          <p:nvPr/>
        </p:nvPicPr>
        <p:blipFill>
          <a:blip r:embed="rId1"/>
          <a:stretch/>
        </p:blipFill>
        <p:spPr>
          <a:xfrm>
            <a:off x="3657600" y="4419720"/>
            <a:ext cx="176832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State Objectives :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atter: Properties/Identify/Small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The learner will be able to identify that matter has predictable properties and is composed of particles to small too be seen with the naked eye.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tes of Matter: Conditions/Identify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The learner will be able to identify states of matter.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9144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Following the presentation, the students will write a paragraph about the three states of matter (solid, liquid, and gas).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6" name="Picture 3" descr="desk7"/>
          <p:cNvPicPr/>
          <p:nvPr/>
        </p:nvPicPr>
        <p:blipFill>
          <a:blip r:embed="rId1"/>
          <a:stretch/>
        </p:blipFill>
        <p:spPr>
          <a:xfrm>
            <a:off x="2590920" y="2971800"/>
            <a:ext cx="35100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fraidsch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no fixed shap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no fixed volum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ade of particles that move rapidly 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e particles also have large spaces  between them in comparison to solids and liquid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9" name="Picture 4" descr="stormy"/>
          <p:cNvPicPr/>
          <p:nvPr/>
        </p:nvPicPr>
        <p:blipFill>
          <a:blip r:embed="rId1"/>
          <a:stretch/>
        </p:blipFill>
        <p:spPr>
          <a:xfrm>
            <a:off x="5562720" y="914400"/>
            <a:ext cx="26971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s of Gases ar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eam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mo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ear Ga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2" name="Picture 5" descr="windycloud"/>
          <p:cNvPicPr/>
          <p:nvPr/>
        </p:nvPicPr>
        <p:blipFill>
          <a:blip r:embed="rId1"/>
          <a:stretch/>
        </p:blipFill>
        <p:spPr>
          <a:xfrm>
            <a:off x="3733920" y="2262240"/>
            <a:ext cx="4537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beaker_lg_wht"/>
          <p:cNvPicPr/>
          <p:nvPr/>
        </p:nvPicPr>
        <p:blipFill>
          <a:blip r:embed="rId1"/>
          <a:stretch/>
        </p:blipFill>
        <p:spPr>
          <a:xfrm>
            <a:off x="2819520" y="2895480"/>
            <a:ext cx="266688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2209680" y="304920"/>
            <a:ext cx="456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Check out the Following Site on Gas :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bbles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qui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no fixed shap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a fixed volum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move past one another easily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are fairly close, but not in a neat even arrangement as the particles in a solid ar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7" name="Picture 4" descr="fishmiscp"/>
          <p:cNvPicPr/>
          <p:nvPr/>
        </p:nvPicPr>
        <p:blipFill>
          <a:blip r:embed="rId1"/>
          <a:stretch/>
        </p:blipFill>
        <p:spPr>
          <a:xfrm>
            <a:off x="5638680" y="609480"/>
            <a:ext cx="2579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ckthis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s of Liquids a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ange Juic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ft drink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ilk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ubbing Alcoho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Vinega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0" name="Picture 4" descr="magicpotion"/>
          <p:cNvPicPr/>
          <p:nvPr/>
        </p:nvPicPr>
        <p:blipFill>
          <a:blip r:embed="rId1"/>
          <a:stretch/>
        </p:blipFill>
        <p:spPr>
          <a:xfrm>
            <a:off x="4191120" y="2057400"/>
            <a:ext cx="38098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r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441520" y="304920"/>
            <a:ext cx="422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Check out the 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following 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Site on Liquids :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2" name="Picture 3" descr="watercycle-ani"/>
          <p:cNvPicPr/>
          <p:nvPr/>
        </p:nvPicPr>
        <p:blipFill>
          <a:blip r:embed="rId1"/>
          <a:stretch/>
        </p:blipFill>
        <p:spPr>
          <a:xfrm>
            <a:off x="2666880" y="3352680"/>
            <a:ext cx="3679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cky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24:26Z</dcterms:created>
  <dc:creator>Jefferson County Schools</dc:creator>
  <dc:description/>
  <dc:language>en-US</dc:language>
  <cp:lastModifiedBy>Student123</cp:lastModifiedBy>
  <dcterms:modified xsi:type="dcterms:W3CDTF">2012-11-14T14:38:49Z</dcterms:modified>
  <cp:revision>44</cp:revision>
  <dc:subject/>
  <dc:title>The Three States of Matter</dc:title>
</cp:coreProperties>
</file>